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23666-5E48-4767-BBEA-C23B9915A3D2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Понятие бизне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Tahoma"/>
              </a:rPr>
              <a:t>Понятие бизнес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 Предпринимать различные действия с        целью обеспечения выгодной позиции для последующего проведения избранных приемов делового общения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) Предпринимать различные действия с        целью обеспечения выгодной позиции для последующего проведения избранных приемов делового общения.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и бизнес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 Получение прибыл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 Накопление средств на развитие бизнес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) Предоставление обществу необходимых товаров и услуг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Цели бизнеса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1) Получение прибыли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2) Накопление средств на развитие бизнеса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3) Предоставление обществу необходимых товаров и услуг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) Достижение передовых позиций в   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своей сфере;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) Оптимальное удовлетворение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потребностей;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) Предоставление возможности своим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сотрудникам реализовать себ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4) Достижение передовых позиций в    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своей сфере;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5) Оптимальное удовлетворение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потребностей;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6) Предоставление возможности своим 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сотрудникам реализовать себя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бизнес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 Коммерческий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коммерческое посредничество;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финансовый бизнес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иды бизнеса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1) Коммерческий: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а) коммерческое посредничество;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б) финансовый бизнес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 Производственный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Факторы производства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рабочая сила;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производственные фонды;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 материалы;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) информация;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) результат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2) Производственный.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Факторы производства: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а) рабочая сила;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б) производственные фонды;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) материалы;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г) информация;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д) результат.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ринимательство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это бизнес, в котором основным источником прибыли служит создание новых способов получения прибыли в производстве (новые факторы производства, новое сочетание факторов, новых сфер приложения капитала), в сбыте продукции, спекулятивных операциях, доход возникающий несовершенства в законодательстве, системе социальных и психологических отношений и т.д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редпринимательство-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- это бизнес, в котором основным источником прибыли служит создание новых способов получения прибыли в производстве (новые факторы производства, новое сочетание факторов, новых сфер приложения капитала), в сбыте продукции, спекулятивных операциях, доход возникающий несовершенства в законодательстве, системе социальных и психологических отношений и т.д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ринимательство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"представляет собой способность к нововведениям, инвестициям и расширению в отношении новых рынков, товаров и методов"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.Х. Лефф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редпринимательство-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"представляет собой способность к нововведениям, инвестициям и расширению в отношении новых рынков, товаров и методов" 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                                 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Н.Х. Лефф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рты современного предпринимател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ваторство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собность к обоснованному риску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ированность, образованность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собность систематически наблюдать и планировать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еустремленность (уверенность в себе, способность убеждать других)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собность работать в коллективе (способность устанавливать связи, вовлеченный в рабочие контакты, ответственный человек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Черты современного предпринимателя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Новаторство;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пособность к обоснованному риску;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Информированность, образованность;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пособность систематически наблюдать и планировать;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Целеустремленность (уверенность в себе, способность убеждать других);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пособность работать в коллективе (способность устанавливать связи, вовлеченный в рабочие контакты, ответственный человек)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авное отличие предпринимателя от бизнесме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оит в том, что он способен изобрести новый вид деятельности и организовать его в принципиально новую предпринимательскую схему (способ делать бизнес), т. е. способность к конструированию бизнеса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Главное отличие предпринимателя от бизнесмен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остоит в том, что он способен изобрести новый вид деятельности и организовать его в принципиально новую предпринимательскую схему (способ делать бизнес), т. е. способность к конструированию бизнеса.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изнес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" деятельность, осуществляемая частными лицами или организациями для извлечения природных благ производства или оказания услуг в обмен на другие товары, услуги или деньги, ведущая к взаимной выгоде заинтересованных лиц или организаций" 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лан Хоскинг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Бизнес-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это " деятельность, осуществляемая частными лицами или организациями для извлечения природных благ производства или оказания услуг в обмен на другие товары, услуги или деньги, ведущая к взаимной выгоде заинтересованных лиц или организаций" 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                                      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Алан Хоскинг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изнес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"предпринимательство как процесс создания чего-то нового, что обладает стоимостью, а предприниматель - человек, который затрачивает на это все необходимое время и силы, берет на себя весь финансовый, психологический и социальный риск, получая в награду деньги и удовлетворение достигнутым"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берт Хизрич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Бизнес-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это "предпринимательство как процесс создания чего-то нового, что обладает стоимостью, а предприниматель - человек, который затрачивает на это все необходимое время и силы, берет на себя весь финансовый, психологический и социальный риск, получая в награду деньги и удовлетворение достигнутым" 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                                           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оберт Хизрич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изнес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" делание денег из денег, но ...обязательно посредством полезной производительной деятельности - изготовлением продукта или оказания услуги."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Юрий Осип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Бизнес-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это " делание денег из денег, но ...обязательно посредством полезной производительной деятельности - изготовлением продукта или оказания услуги."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                            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Юрий Осипов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изнес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это "…самостоятельная, осуществляемая на свой риск деятельность, направленная на систематическое получение прибыли от использования имущества, продажи товаров, выполнения работ или оказания услуг лицами, зарегистрированными в этом качестве в установленном законом порядке"  (ГК РФ ст. 2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Бизнес-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- это "…самостоятельная, осуществляемая на свой риск деятельность, направленная на систематическое получение прибыли от использования имущества, продажи товаров, выполнения работ или оказания услуг лицами, зарегистрированными в этом качестве в установленном законом порядке"  (ГК РФ ст. 2)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                       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изнес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это инициативная экономическая деятельность, осуществляемая за счет собственных или заемных средств на свой риск и под свою ответственность, ставящая своими целями получение прибыли и развитие собственного дел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Бизнес-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- это инициативная экономическая деятельность, осуществляемая за счет собственных или заемных средств на свой риск и под свою ответственность, ставящая своими целями получение прибыли и развитие собственного дела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знаки бизнес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 Ориентация на получение прибыл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 Обоснованный риск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) Новаторство (поиск новых решений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) Ответственност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) Экономическая самостоятельн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ризнаки бизнеса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1) Ориентация на получение прибыли;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2) Обоснованный риск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3) Новаторство (поиск новых решений)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4) Ответственность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5) Экономическая самостоятельность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рактерные черты бизнес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 Обмен деятельностью между субъектами экономик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 Стремление каждого субъекта при взаимном обмене реализовать свои  интересы независимо от того выгодно ли это другому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) Стремление навязать свои интересы в процессе делового общ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Характерные черты бизнеса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1) Обмен деятельностью между субъектами экономики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2) Стремление каждого субъекта при взаимном обмене реализовать свои  интересы независимо от того выгодно ли это другому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3) Стремление навязать свои интересы в процессе делового общения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) Способность и готовность рисковать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ради проведения сделки на более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выгодных условиях;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) Способность, готовность и умение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проводить различные приемы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делового общения ради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достижения наибольшей выгоды;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б) различать реальное и возможное 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определять авторитеты;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4) Способность и готовность рисковать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ради проведения сделки на более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выгодных условиях;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5) Способность, готовность и умение: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а) проводить различные приемы 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      делового общения ради 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      достижения наибольшей выгоды;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  б) различать реальное и возможное , 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      определять авторитеты;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F4433-79F8-4BF5-8CDA-5D4730217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4C2E6-ADD8-4996-B1C0-CDF077C7D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64CD9-3AA4-452C-9503-38FA69210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DD163-82AB-4043-A757-FD700C80C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99F38-6E27-48B0-8900-6EF0E5626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BCA8D-95A6-428D-AD21-F736AAF1E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5911A-E3D3-4D2B-965B-923A5DF0D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05781-4BD2-4A9D-9178-E2ED1BAC3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CB206-60D9-4C2D-9CA5-0179E1466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61DA7-BC1F-4013-86F9-7A45B530C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E80D7-2329-4086-9555-5C43D0643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AD7F7-608F-4F96-96D1-2700F0656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D591D-0350-4676-8859-81C16EAA3D1D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620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e5ffff"/>
                </a:solidFill>
                <a:latin typeface="Tahoma"/>
              </a:rPr>
              <a:t>Понятие бизнеса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7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) Предпринимать различные действия с        целью обеспечения выгодной позиции для последующего проведения избранных приемов делового общения.</a:t>
            </a:r>
            <a:br>
              <a:rPr sz="3200"/>
            </a:b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Цели бизнеса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) Получение прибыли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2) Накопление средств на развитие бизнеса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3) Предоставление обществу необходимых товаров и услуг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592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4) Достижение передовых позиций в   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своей сфере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;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5) Оптимальное удовлетворение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потребностей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;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6) Предоставление возможности своим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сотрудникам реализовать себя.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Виды бизнеса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492280"/>
            <a:ext cx="8229600" cy="36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) Коммерческий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: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) коммерческое посредничество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;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б) финансовый бизнес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5856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   </a:t>
            </a: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2</a:t>
            </a:r>
            <a:r>
              <a:rPr b="0" lang="ru-RU" sz="3600" spc="-1" strike="noStrike">
                <a:solidFill>
                  <a:srgbClr val="e5ffff"/>
                </a:solidFill>
                <a:latin typeface="Tahoma"/>
              </a:rPr>
              <a:t>) Производственный.</a:t>
            </a:r>
            <a:br>
              <a:rPr sz="3600"/>
            </a:br>
            <a:r>
              <a:rPr b="0" lang="ru-RU" sz="3600" spc="-1" strike="noStrike">
                <a:solidFill>
                  <a:srgbClr val="e5ffff"/>
                </a:solidFill>
                <a:latin typeface="Tahoma"/>
              </a:rPr>
              <a:t>    Факторы производства</a:t>
            </a: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:</a:t>
            </a:r>
            <a:br>
              <a:rPr sz="3600"/>
            </a:br>
            <a:r>
              <a:rPr b="0" lang="ru-RU" sz="36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ru-RU" sz="3600" spc="-1" strike="noStrike">
                <a:solidFill>
                  <a:srgbClr val="e5ffff"/>
                </a:solidFill>
                <a:latin typeface="Tahoma"/>
              </a:rPr>
              <a:t>а) рабочая сила</a:t>
            </a: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;</a:t>
            </a:r>
            <a:br>
              <a:rPr sz="3600"/>
            </a:br>
            <a:r>
              <a:rPr b="0" lang="ru-RU" sz="36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ru-RU" sz="3600" spc="-1" strike="noStrike">
                <a:solidFill>
                  <a:srgbClr val="e5ffff"/>
                </a:solidFill>
                <a:latin typeface="Tahoma"/>
              </a:rPr>
              <a:t>б) производственные фонды</a:t>
            </a: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;</a:t>
            </a:r>
            <a:br>
              <a:rPr sz="3600"/>
            </a:br>
            <a:r>
              <a:rPr b="0" lang="ru-RU" sz="36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ru-RU" sz="3600" spc="-1" strike="noStrike">
                <a:solidFill>
                  <a:srgbClr val="e5ffff"/>
                </a:solidFill>
                <a:latin typeface="Tahoma"/>
              </a:rPr>
              <a:t>в) материалы</a:t>
            </a: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;</a:t>
            </a:r>
            <a:br>
              <a:rPr sz="3600"/>
            </a:br>
            <a:r>
              <a:rPr b="0" lang="ru-RU" sz="36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ru-RU" sz="3600" spc="-1" strike="noStrike">
                <a:solidFill>
                  <a:srgbClr val="e5ffff"/>
                </a:solidFill>
                <a:latin typeface="Tahoma"/>
              </a:rPr>
              <a:t>г) информация</a:t>
            </a: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;</a:t>
            </a:r>
            <a:br>
              <a:rPr sz="3600"/>
            </a:br>
            <a:r>
              <a:rPr b="0" lang="ru-RU" sz="36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ru-RU" sz="3600" spc="-1" strike="noStrike">
                <a:solidFill>
                  <a:srgbClr val="e5ffff"/>
                </a:solidFill>
                <a:latin typeface="Tahoma"/>
              </a:rPr>
              <a:t>д) результат.</a:t>
            </a:r>
            <a:br>
              <a:rPr sz="3600"/>
            </a:b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Предпринимательство-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это бизнес, в котором основным источником прибыли служит создание новых способов получения прибыли в производстве (новые факторы производства, новое сочетание факторов, новых сфер приложения капитала), в сбыте продукции, спекулятивных операциях, доход возникающий несовершенства в законодательстве, системе социальных и психологических отношений и т.д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Предпринимательство-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"представляет собой способность к нововведениям, инвестициям и расширению в отношении новых рынков, товаров и методов"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        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.Х. Лефф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Черты современного предпринимателя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: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оваторство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пособность к обоснованному риску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нформированность, образованность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пособность систематически наблюдать и планировать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Целеустремленность (уверенность в себе, способность убеждать других)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пособность работать в коллективе (способность устанавливать связи, вовлеченный в рабочие контакты, ответственный человек)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Главное отличие предпринимателя от бизнесмена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остоит в том, что он способен изобрести новый вид деятельности и организовать его в принципиально новую предпринимательскую схему (способ делать бизнес), т. е. способность к конструированию бизнеса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Бизнес-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это 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" деятельность, осуществляемая частными лицами или организациями для извлечения природных благ производства или оказания услуг в обмен на другие товары, услуги или деньги, ведущая к взаимной выгоде заинтересованных лиц или организаций" .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      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лан Хоскинг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Бизнес-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это 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"предпринимательство как процесс создания чего-то нового, что обладает стоимостью, а предприниматель - человек, который затрачивает на это все необходимое время и силы, берет на себя весь финансовый, психологический и социальный риск, получая в награду деньги и удовлетворение достигнутым"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           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оберт Хизрич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Бизнес-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это </a:t>
            </a: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"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делание денег из денег, но ...обязательно посредством полезной производительной деятельности - изготовлением продукта или оказания услуги."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   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Юрий Осипов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Бизнес-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это 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"…самостоятельная, осуществляемая на свой риск деятельность, направленная на систематическое получение прибыли от использования имущества, продажи товаров, выполнения работ или оказания услуг лицами, зарегистрированными в этом качестве в установленном законом порядке"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(ГК РФ ст. 2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       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Бизнес-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 это инициативная экономическая деятельность, осуществляемая за счет </a:t>
            </a:r>
            <a:r>
              <a:rPr b="0" i="1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собственных или заемных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средств на свой </a:t>
            </a:r>
            <a:r>
              <a:rPr b="0" i="1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риск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и под свою </a:t>
            </a:r>
            <a:r>
              <a:rPr b="0" i="1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ответственность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, ставящая своими целями получение </a:t>
            </a:r>
            <a:r>
              <a:rPr b="0" i="1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прибыли и развитие собственного дела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Признаки бизнеса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) Ориентация на получение прибыли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;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2) Обоснованный риск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3) Новаторство (поиск новых решений)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4) Ответственност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5) Экономическая самостоятельность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Характерные черты бизнеса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) Обмен деятельностью между субъектами экономики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2) Стремление каждого субъекта при взаимном обмене реализовать свои  интересы независимо от того выгодно ли это другому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3) Стремление навязать свои интересы в процессе делового общения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362800" cy="62881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4)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пособность и готовность рисковать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ради проведения сделки на более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выгодных условиях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;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5) Способность, готовность и умение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: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) проводить различные приемы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 делового общения ради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 достижения наибольшей выгоды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;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б) различать реальное и возможное ,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 определять авторитеты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;</a:t>
            </a:r>
            <a:br>
              <a:rPr sz="3200"/>
            </a:b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3T09:13:33Z</dcterms:created>
  <dc:creator>Vladimir</dc:creator>
  <dc:description/>
  <dc:language>en-US</dc:language>
  <cp:lastModifiedBy>LEGION</cp:lastModifiedBy>
  <dcterms:modified xsi:type="dcterms:W3CDTF">2016-01-05T12:45:46Z</dcterms:modified>
  <cp:revision>15</cp:revision>
  <dc:subject/>
  <dc:title>Понятие бизнеса</dc:title>
</cp:coreProperties>
</file>